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88960"/>
            <a:ext cx="7764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8896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418896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88960"/>
            <a:ext cx="249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4188960"/>
            <a:ext cx="249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4188960"/>
            <a:ext cx="249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79520"/>
            <a:ext cx="77644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8896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418896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88960"/>
            <a:ext cx="7764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64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ec.executiva@cnrh-srh.gov.b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91200" y="838080"/>
            <a:ext cx="1981440" cy="63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600" y="2104920"/>
            <a:ext cx="848196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Unicode MS"/>
              </a:rPr>
              <a:t>e as Câmara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JOÃO BOSCO SEN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Secretário Executivo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22 de novemb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XVI Simpósio Brasileiro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9600" y="2781360"/>
            <a:ext cx="8481960" cy="29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MUITO OBRIG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JOÃO BOSCO SEN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Secretário Executivo do CN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www.cnrh-srh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2004480"/>
            <a:ext cx="9031320" cy="4724640"/>
            <a:chOff x="109440" y="2004480"/>
            <a:chExt cx="9031320" cy="4724640"/>
          </a:xfrm>
        </p:grpSpPr>
        <p:sp>
          <p:nvSpPr>
            <p:cNvPr id="49" name=""/>
            <p:cNvSpPr/>
            <p:nvPr/>
          </p:nvSpPr>
          <p:spPr>
            <a:xfrm>
              <a:off x="2971800" y="4606920"/>
              <a:ext cx="350532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2004480"/>
              <a:ext cx="9031320" cy="4724640"/>
              <a:chOff x="109440" y="2004480"/>
              <a:chExt cx="9031320" cy="472464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109440" y="2622600"/>
                <a:ext cx="8939160" cy="4106520"/>
                <a:chOff x="109440" y="2622600"/>
                <a:chExt cx="8939160" cy="410652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109440" y="2622600"/>
                  <a:ext cx="8939160" cy="834480"/>
                  <a:chOff x="109440" y="2622600"/>
                  <a:chExt cx="8939160" cy="834480"/>
                </a:xfrm>
              </p:grpSpPr>
              <p:grpSp>
                <p:nvGrpSpPr>
                  <p:cNvPr id="53" name=""/>
                  <p:cNvGrpSpPr/>
                  <p:nvPr/>
                </p:nvGrpSpPr>
                <p:grpSpPr>
                  <a:xfrm>
                    <a:off x="109440" y="2934000"/>
                    <a:ext cx="1163880" cy="377280"/>
                    <a:chOff x="109440" y="2934000"/>
                    <a:chExt cx="1163880" cy="37728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17440" y="2987640"/>
                      <a:ext cx="986040" cy="306360"/>
                    </a:xfrm>
                    <a:prstGeom prst="roundRect">
                      <a:avLst>
                        <a:gd name="adj" fmla="val 519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" name=""/>
                    <p:cNvGrpSpPr/>
                    <p:nvPr/>
                  </p:nvGrpSpPr>
                  <p:grpSpPr>
                    <a:xfrm>
                      <a:off x="109440" y="2934000"/>
                      <a:ext cx="1163880" cy="377280"/>
                      <a:chOff x="109440" y="2934000"/>
                      <a:chExt cx="1163880" cy="377280"/>
                    </a:xfrm>
                  </p:grpSpPr>
                  <p:sp>
                    <p:nvSpPr>
                      <p:cNvPr id="56" name=""/>
                      <p:cNvSpPr/>
                      <p:nvPr/>
                    </p:nvSpPr>
                    <p:spPr>
                      <a:xfrm>
                        <a:off x="217080" y="2987280"/>
                        <a:ext cx="979560" cy="301680"/>
                      </a:xfrm>
                      <a:prstGeom prst="roundRect">
                        <a:avLst>
                          <a:gd name="adj" fmla="val 52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" name=""/>
                      <p:cNvSpPr/>
                      <p:nvPr/>
                    </p:nvSpPr>
                    <p:spPr>
                      <a:xfrm>
                        <a:off x="109440" y="2934000"/>
                        <a:ext cx="116388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Âmbito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8" name=""/>
                  <p:cNvGrpSpPr/>
                  <p:nvPr/>
                </p:nvGrpSpPr>
                <p:grpSpPr>
                  <a:xfrm>
                    <a:off x="3646440" y="2622600"/>
                    <a:ext cx="1933560" cy="758880"/>
                    <a:chOff x="3646440" y="2622600"/>
                    <a:chExt cx="1933560" cy="758880"/>
                  </a:xfrm>
                </p:grpSpPr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3646440" y="2622600"/>
                      <a:ext cx="1933560" cy="758880"/>
                    </a:xfrm>
                    <a:prstGeom prst="roundRect">
                      <a:avLst>
                        <a:gd name="adj" fmla="val 208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" name=""/>
                    <p:cNvGrpSpPr/>
                    <p:nvPr/>
                  </p:nvGrpSpPr>
                  <p:grpSpPr>
                    <a:xfrm>
                      <a:off x="3646440" y="2693160"/>
                      <a:ext cx="1927080" cy="682200"/>
                      <a:chOff x="3646440" y="2693160"/>
                      <a:chExt cx="1927080" cy="682200"/>
                    </a:xfrm>
                  </p:grpSpPr>
                  <p:sp>
                    <p:nvSpPr>
                      <p:cNvPr id="61" name=""/>
                      <p:cNvSpPr/>
                      <p:nvPr/>
                    </p:nvSpPr>
                    <p:spPr>
                      <a:xfrm>
                        <a:off x="3646440" y="2925000"/>
                        <a:ext cx="1927080" cy="223200"/>
                      </a:xfrm>
                      <a:prstGeom prst="roundRect">
                        <a:avLst>
                          <a:gd name="adj" fmla="val 71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" name=""/>
                      <p:cNvSpPr/>
                      <p:nvPr/>
                    </p:nvSpPr>
                    <p:spPr>
                      <a:xfrm>
                        <a:off x="3646440" y="2693160"/>
                        <a:ext cx="192708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 anchorCtr="1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dministraçã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iret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3" name=""/>
                  <p:cNvGrpSpPr/>
                  <p:nvPr/>
                </p:nvGrpSpPr>
                <p:grpSpPr>
                  <a:xfrm>
                    <a:off x="7761240" y="2774880"/>
                    <a:ext cx="1287360" cy="682200"/>
                    <a:chOff x="7761240" y="2774880"/>
                    <a:chExt cx="1287360" cy="682200"/>
                  </a:xfrm>
                </p:grpSpPr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7761240" y="2820960"/>
                      <a:ext cx="1287360" cy="571680"/>
                    </a:xfrm>
                    <a:prstGeom prst="roundRect">
                      <a:avLst>
                        <a:gd name="adj" fmla="val 278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5" name=""/>
                    <p:cNvGrpSpPr/>
                    <p:nvPr/>
                  </p:nvGrpSpPr>
                  <p:grpSpPr>
                    <a:xfrm>
                      <a:off x="7761240" y="2774880"/>
                      <a:ext cx="1280880" cy="682200"/>
                      <a:chOff x="7761240" y="2774880"/>
                      <a:chExt cx="1280880" cy="682200"/>
                    </a:xfrm>
                  </p:grpSpPr>
                  <p:sp>
                    <p:nvSpPr>
                      <p:cNvPr id="66" name=""/>
                      <p:cNvSpPr/>
                      <p:nvPr/>
                    </p:nvSpPr>
                    <p:spPr>
                      <a:xfrm>
                        <a:off x="7761240" y="2964600"/>
                        <a:ext cx="1280880" cy="299160"/>
                      </a:xfrm>
                      <a:prstGeom prst="roundRect">
                        <a:avLst>
                          <a:gd name="adj" fmla="val 528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" name=""/>
                      <p:cNvSpPr/>
                      <p:nvPr/>
                    </p:nvSpPr>
                    <p:spPr>
                      <a:xfrm>
                        <a:off x="7761240" y="2774880"/>
                        <a:ext cx="128088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ntidade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a Ba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5856120" y="2722680"/>
                    <a:ext cx="1694160" cy="682200"/>
                    <a:chOff x="5856120" y="2722680"/>
                    <a:chExt cx="1694160" cy="682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5856120" y="2766960"/>
                      <a:ext cx="1694160" cy="600120"/>
                    </a:xfrm>
                    <a:prstGeom prst="roundRect">
                      <a:avLst>
                        <a:gd name="adj" fmla="val 264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" name=""/>
                    <p:cNvGrpSpPr/>
                    <p:nvPr/>
                  </p:nvGrpSpPr>
                  <p:grpSpPr>
                    <a:xfrm>
                      <a:off x="5856120" y="2722680"/>
                      <a:ext cx="1687680" cy="682200"/>
                      <a:chOff x="5856120" y="2722680"/>
                      <a:chExt cx="1687680" cy="682200"/>
                    </a:xfrm>
                  </p:grpSpPr>
                  <p:sp>
                    <p:nvSpPr>
                      <p:cNvPr id="71" name=""/>
                      <p:cNvSpPr/>
                      <p:nvPr/>
                    </p:nvSpPr>
                    <p:spPr>
                      <a:xfrm>
                        <a:off x="5856120" y="2986920"/>
                        <a:ext cx="1687680" cy="155160"/>
                      </a:xfrm>
                      <a:prstGeom prst="roundRect">
                        <a:avLst>
                          <a:gd name="adj" fmla="val 1019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" name=""/>
                      <p:cNvSpPr/>
                      <p:nvPr/>
                    </p:nvSpPr>
                    <p:spPr>
                      <a:xfrm>
                        <a:off x="5856120" y="2722680"/>
                        <a:ext cx="168768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 anchorCtr="1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oder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utorgante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3" name=""/>
                  <p:cNvGrpSpPr/>
                  <p:nvPr/>
                </p:nvGrpSpPr>
                <p:grpSpPr>
                  <a:xfrm>
                    <a:off x="1589040" y="2657520"/>
                    <a:ext cx="1720800" cy="782640"/>
                    <a:chOff x="1589040" y="2657520"/>
                    <a:chExt cx="1720800" cy="782640"/>
                  </a:xfrm>
                </p:grpSpPr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1589040" y="2657520"/>
                      <a:ext cx="1720800" cy="782640"/>
                    </a:xfrm>
                    <a:prstGeom prst="roundRect">
                      <a:avLst>
                        <a:gd name="adj" fmla="val 199"/>
                      </a:avLst>
                    </a:prstGeom>
                    <a:solidFill>
                      <a:srgbClr val="ffff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1589040" y="2712240"/>
                      <a:ext cx="1714320" cy="682200"/>
                      <a:chOff x="1589040" y="2712240"/>
                      <a:chExt cx="1714320" cy="68220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1589040" y="2939400"/>
                        <a:ext cx="1714320" cy="234000"/>
                      </a:xfrm>
                      <a:prstGeom prst="roundRect">
                        <a:avLst>
                          <a:gd name="adj" fmla="val 671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1589040" y="2712240"/>
                        <a:ext cx="171432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 anchorCtr="1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rganismo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legiado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130320" y="3600360"/>
                  <a:ext cx="8918280" cy="1405080"/>
                  <a:chOff x="130320" y="3600360"/>
                  <a:chExt cx="8918280" cy="140508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30320" y="4071240"/>
                    <a:ext cx="1339560" cy="377280"/>
                    <a:chOff x="130320" y="4071240"/>
                    <a:chExt cx="1339560" cy="37728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35080" y="4083120"/>
                      <a:ext cx="1062000" cy="358560"/>
                    </a:xfrm>
                    <a:prstGeom prst="roundRect">
                      <a:avLst>
                        <a:gd name="adj" fmla="val 440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130320" y="4071240"/>
                      <a:ext cx="1339560" cy="377280"/>
                      <a:chOff x="130320" y="4071240"/>
                      <a:chExt cx="1339560" cy="37728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234720" y="4082760"/>
                        <a:ext cx="1055880" cy="354600"/>
                      </a:xfrm>
                      <a:prstGeom prst="roundRect">
                        <a:avLst>
                          <a:gd name="adj" fmla="val 44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130320" y="4071240"/>
                        <a:ext cx="133956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 anchorCtr="1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acional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3657600" y="3600360"/>
                    <a:ext cx="1741320" cy="523800"/>
                    <a:chOff x="3657600" y="3600360"/>
                    <a:chExt cx="1741320" cy="5238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3657600" y="3600360"/>
                      <a:ext cx="1741320" cy="523800"/>
                    </a:xfrm>
                    <a:prstGeom prst="roundRect">
                      <a:avLst>
                        <a:gd name="adj" fmla="val 301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3657600" y="3600360"/>
                      <a:ext cx="1734840" cy="517320"/>
                      <a:chOff x="3657600" y="3600360"/>
                      <a:chExt cx="1734840" cy="517320"/>
                    </a:xfrm>
                  </p:grpSpPr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3657600" y="3600360"/>
                        <a:ext cx="1734840" cy="517320"/>
                      </a:xfrm>
                      <a:prstGeom prst="roundRect">
                        <a:avLst>
                          <a:gd name="adj" fmla="val 301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3657600" y="3670200"/>
                        <a:ext cx="173484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MMA / SRH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7763040" y="4316400"/>
                    <a:ext cx="1285560" cy="689040"/>
                    <a:chOff x="7763040" y="4316400"/>
                    <a:chExt cx="1285560" cy="68904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7763040" y="4343400"/>
                      <a:ext cx="1285560" cy="662040"/>
                    </a:xfrm>
                    <a:prstGeom prst="roundRect">
                      <a:avLst>
                        <a:gd name="adj" fmla="val 236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7763040" y="4316400"/>
                      <a:ext cx="1279080" cy="682200"/>
                      <a:chOff x="7763040" y="4316400"/>
                      <a:chExt cx="1279080" cy="68220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7763040" y="4431960"/>
                        <a:ext cx="1279080" cy="449280"/>
                      </a:xfrm>
                      <a:prstGeom prst="roundRect">
                        <a:avLst>
                          <a:gd name="adj" fmla="val 352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7763040" y="4316400"/>
                        <a:ext cx="127908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gên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 Ba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5861160" y="3600360"/>
                    <a:ext cx="1438200" cy="523800"/>
                    <a:chOff x="5861160" y="3600360"/>
                    <a:chExt cx="1438200" cy="52380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5861160" y="3600360"/>
                      <a:ext cx="1438200" cy="523800"/>
                    </a:xfrm>
                    <a:prstGeom prst="roundRect">
                      <a:avLst>
                        <a:gd name="adj" fmla="val 301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6" name=""/>
                    <p:cNvGrpSpPr/>
                    <p:nvPr/>
                  </p:nvGrpSpPr>
                  <p:grpSpPr>
                    <a:xfrm>
                      <a:off x="5861160" y="3600360"/>
                      <a:ext cx="1432080" cy="517320"/>
                      <a:chOff x="5861160" y="3600360"/>
                      <a:chExt cx="1432080" cy="517320"/>
                    </a:xfrm>
                  </p:grpSpPr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5861160" y="3600360"/>
                        <a:ext cx="1432080" cy="517320"/>
                      </a:xfrm>
                      <a:prstGeom prst="roundRect">
                        <a:avLst>
                          <a:gd name="adj" fmla="val 301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5861160" y="3670200"/>
                        <a:ext cx="143208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N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1603440" y="3666960"/>
                    <a:ext cx="1512720" cy="457200"/>
                    <a:chOff x="1603440" y="3666960"/>
                    <a:chExt cx="1512720" cy="45720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1603440" y="3666960"/>
                      <a:ext cx="1512720" cy="457200"/>
                    </a:xfrm>
                    <a:prstGeom prst="roundRect">
                      <a:avLst>
                        <a:gd name="adj" fmla="val 347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1603440" y="3666960"/>
                      <a:ext cx="1506240" cy="450720"/>
                      <a:chOff x="1603440" y="3666960"/>
                      <a:chExt cx="1506240" cy="4507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603440" y="3666960"/>
                        <a:ext cx="1506240" cy="450720"/>
                      </a:xfrm>
                      <a:prstGeom prst="roundRect">
                        <a:avLst>
                          <a:gd name="adj" fmla="val 34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603440" y="3703680"/>
                        <a:ext cx="150624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NRH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717560" y="4316400"/>
                    <a:ext cx="1285920" cy="682200"/>
                    <a:chOff x="1717560" y="4316400"/>
                    <a:chExt cx="1285920" cy="68220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717560" y="4384800"/>
                      <a:ext cx="1285920" cy="571320"/>
                    </a:xfrm>
                    <a:prstGeom prst="roundRect">
                      <a:avLst>
                        <a:gd name="adj" fmla="val 278"/>
                      </a:avLst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6" name=""/>
                    <p:cNvGrpSpPr/>
                    <p:nvPr/>
                  </p:nvGrpSpPr>
                  <p:grpSpPr>
                    <a:xfrm>
                      <a:off x="1717560" y="4316400"/>
                      <a:ext cx="1278000" cy="682200"/>
                      <a:chOff x="1717560" y="4316400"/>
                      <a:chExt cx="1278000" cy="682200"/>
                    </a:xfrm>
                  </p:grpSpPr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1717560" y="4431960"/>
                        <a:ext cx="1278000" cy="451080"/>
                      </a:xfrm>
                      <a:prstGeom prst="roundRect">
                        <a:avLst>
                          <a:gd name="adj" fmla="val 352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1717560" y="4316400"/>
                        <a:ext cx="127800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mitê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 Ba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9" name=""/>
                  <p:cNvSpPr/>
                  <p:nvPr/>
                </p:nvSpPr>
                <p:spPr>
                  <a:xfrm>
                    <a:off x="3122640" y="3865680"/>
                    <a:ext cx="5317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405400" y="3865680"/>
                    <a:ext cx="45576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05840" y="3865680"/>
                    <a:ext cx="107784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408880" y="3865680"/>
                    <a:ext cx="1800" cy="528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006720" y="4923000"/>
                    <a:ext cx="47563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363760" y="4129200"/>
                    <a:ext cx="1440" cy="264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6545160" y="4120920"/>
                    <a:ext cx="1800" cy="54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4494240" y="4120920"/>
                    <a:ext cx="1440" cy="54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217440" y="5245200"/>
                  <a:ext cx="8831160" cy="1483920"/>
                  <a:chOff x="217440" y="5245200"/>
                  <a:chExt cx="8831160" cy="148392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17440" y="5811480"/>
                    <a:ext cx="1212840" cy="377280"/>
                    <a:chOff x="217440" y="5811480"/>
                    <a:chExt cx="1212840" cy="37728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17440" y="5823000"/>
                      <a:ext cx="1212840" cy="355680"/>
                    </a:xfrm>
                    <a:prstGeom prst="roundRect">
                      <a:avLst>
                        <a:gd name="adj" fmla="val 444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" name=""/>
                    <p:cNvGrpSpPr/>
                    <p:nvPr/>
                  </p:nvGrpSpPr>
                  <p:grpSpPr>
                    <a:xfrm>
                      <a:off x="217440" y="5811480"/>
                      <a:ext cx="1206360" cy="377280"/>
                      <a:chOff x="217440" y="5811480"/>
                      <a:chExt cx="1206360" cy="377280"/>
                    </a:xfrm>
                  </p:grpSpPr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217440" y="5820840"/>
                        <a:ext cx="1206360" cy="351360"/>
                      </a:xfrm>
                      <a:prstGeom prst="roundRect">
                        <a:avLst>
                          <a:gd name="adj" fmla="val 449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217440" y="5811480"/>
                        <a:ext cx="120636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 anchorCtr="1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stadual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646440" y="5267520"/>
                    <a:ext cx="1744560" cy="682200"/>
                    <a:chOff x="3646440" y="5267520"/>
                    <a:chExt cx="1744560" cy="6822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646440" y="5324400"/>
                      <a:ext cx="1744560" cy="558720"/>
                    </a:xfrm>
                    <a:prstGeom prst="roundRect">
                      <a:avLst>
                        <a:gd name="adj" fmla="val 282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3646440" y="5267520"/>
                      <a:ext cx="1738080" cy="682200"/>
                      <a:chOff x="3646440" y="5267520"/>
                      <a:chExt cx="1738080" cy="68220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3646440" y="5389200"/>
                        <a:ext cx="1738080" cy="441720"/>
                      </a:xfrm>
                      <a:prstGeom prst="roundRect">
                        <a:avLst>
                          <a:gd name="adj" fmla="val 356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3646440" y="5267520"/>
                        <a:ext cx="173808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ecretar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 Estad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761240" y="6046920"/>
                    <a:ext cx="1287360" cy="682200"/>
                    <a:chOff x="7761240" y="6046920"/>
                    <a:chExt cx="1287360" cy="68220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761240" y="6067440"/>
                      <a:ext cx="1287360" cy="611280"/>
                    </a:xfrm>
                    <a:prstGeom prst="roundRect">
                      <a:avLst>
                        <a:gd name="adj" fmla="val 259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0" name=""/>
                    <p:cNvGrpSpPr/>
                    <p:nvPr/>
                  </p:nvGrpSpPr>
                  <p:grpSpPr>
                    <a:xfrm>
                      <a:off x="7761240" y="6046920"/>
                      <a:ext cx="1280880" cy="682200"/>
                      <a:chOff x="7761240" y="6046920"/>
                      <a:chExt cx="1280880" cy="682200"/>
                    </a:xfrm>
                  </p:grpSpPr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7761240" y="6168600"/>
                        <a:ext cx="1280880" cy="441720"/>
                      </a:xfrm>
                      <a:prstGeom prst="roundRect">
                        <a:avLst>
                          <a:gd name="adj" fmla="val 356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7761240" y="6046920"/>
                        <a:ext cx="128088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gên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 Ba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5856120" y="5245200"/>
                    <a:ext cx="1440000" cy="987120"/>
                    <a:chOff x="5856120" y="5245200"/>
                    <a:chExt cx="1440000" cy="98712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856120" y="5272200"/>
                      <a:ext cx="1440000" cy="884160"/>
                    </a:xfrm>
                    <a:prstGeom prst="roundRect">
                      <a:avLst>
                        <a:gd name="adj" fmla="val 176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5856120" y="5245200"/>
                      <a:ext cx="1433880" cy="987120"/>
                      <a:chOff x="5856120" y="5245200"/>
                      <a:chExt cx="1433880" cy="987120"/>
                    </a:xfrm>
                  </p:grpSpPr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5856120" y="5393880"/>
                        <a:ext cx="1433880" cy="692640"/>
                      </a:xfrm>
                      <a:prstGeom prst="roundRect">
                        <a:avLst>
                          <a:gd name="adj" fmla="val 22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5856120" y="5245200"/>
                        <a:ext cx="1433880" cy="98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ntidade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Gestora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staduai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589040" y="5416560"/>
                    <a:ext cx="1515960" cy="446040"/>
                    <a:chOff x="1589040" y="5416560"/>
                    <a:chExt cx="1515960" cy="44604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89040" y="5416560"/>
                      <a:ext cx="1515960" cy="446040"/>
                    </a:xfrm>
                    <a:prstGeom prst="roundRect">
                      <a:avLst>
                        <a:gd name="adj" fmla="val 352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1589040" y="5416560"/>
                      <a:ext cx="1509480" cy="439560"/>
                      <a:chOff x="1589040" y="5416560"/>
                      <a:chExt cx="1509480" cy="439560"/>
                    </a:xfrm>
                  </p:grpSpPr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589040" y="5416560"/>
                        <a:ext cx="1509480" cy="439560"/>
                      </a:xfrm>
                      <a:prstGeom prst="roundRect">
                        <a:avLst>
                          <a:gd name="adj" fmla="val 356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1589040" y="5447520"/>
                        <a:ext cx="1509480" cy="377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ERH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1703520" y="6046920"/>
                    <a:ext cx="1287360" cy="682200"/>
                    <a:chOff x="1703520" y="6046920"/>
                    <a:chExt cx="1287360" cy="68220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703520" y="6067440"/>
                      <a:ext cx="1287360" cy="596880"/>
                    </a:xfrm>
                    <a:prstGeom prst="roundRect">
                      <a:avLst>
                        <a:gd name="adj" fmla="val 264"/>
                      </a:avLst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1703520" y="6046920"/>
                      <a:ext cx="1281240" cy="682200"/>
                      <a:chOff x="1703520" y="6046920"/>
                      <a:chExt cx="1281240" cy="68220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1703520" y="6168600"/>
                        <a:ext cx="1281240" cy="441720"/>
                      </a:xfrm>
                      <a:prstGeom prst="roundRect">
                        <a:avLst>
                          <a:gd name="adj" fmla="val 356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1703520" y="6046920"/>
                        <a:ext cx="1281240" cy="68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93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mitê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 Baci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8" name=""/>
                  <p:cNvSpPr/>
                  <p:nvPr/>
                </p:nvSpPr>
                <p:spPr>
                  <a:xfrm>
                    <a:off x="3112920" y="5610240"/>
                    <a:ext cx="5335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398920" y="5610240"/>
                    <a:ext cx="45720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304040" y="5610240"/>
                    <a:ext cx="107964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8408880" y="5610240"/>
                    <a:ext cx="1800" cy="522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995560" y="6649920"/>
                    <a:ext cx="4765680" cy="1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351160" y="5872320"/>
                    <a:ext cx="1440" cy="260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537240" y="6162480"/>
                    <a:ext cx="1800" cy="231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4484520" y="5857560"/>
                    <a:ext cx="1800" cy="539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036960" y="6391440"/>
                    <a:ext cx="350496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1527120" y="2171880"/>
                <a:ext cx="4076280" cy="348840"/>
                <a:chOff x="1527120" y="2171880"/>
                <a:chExt cx="4076280" cy="3488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564920" y="2232000"/>
                  <a:ext cx="4038480" cy="235080"/>
                </a:xfrm>
                <a:prstGeom prst="roundRect">
                  <a:avLst>
                    <a:gd name="adj" fmla="val 671"/>
                  </a:avLst>
                </a:prstGeom>
                <a:solidFill>
                  <a:srgbClr val="0000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1527120" y="2171880"/>
                  <a:ext cx="4068360" cy="348840"/>
                  <a:chOff x="1527120" y="2171880"/>
                  <a:chExt cx="4068360" cy="3488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564920" y="2231640"/>
                    <a:ext cx="4030560" cy="228600"/>
                  </a:xfrm>
                  <a:prstGeom prst="roundRect">
                    <a:avLst>
                      <a:gd name="adj" fmla="val 69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527120" y="2171880"/>
                    <a:ext cx="404496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ff00"/>
                        </a:solidFill>
                        <a:latin typeface="Arial"/>
                      </a:rPr>
                      <a:t>Formulação da Política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5857920" y="2004480"/>
                <a:ext cx="3282840" cy="633600"/>
                <a:chOff x="5857920" y="2004480"/>
                <a:chExt cx="3282840" cy="6336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857920" y="2004480"/>
                  <a:ext cx="3282840" cy="633600"/>
                </a:xfrm>
                <a:prstGeom prst="roundRect">
                  <a:avLst>
                    <a:gd name="adj" fmla="val 250"/>
                  </a:avLst>
                </a:prstGeom>
                <a:solidFill>
                  <a:srgbClr val="0000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5857920" y="2004480"/>
                  <a:ext cx="3276360" cy="627480"/>
                  <a:chOff x="5857920" y="2004480"/>
                  <a:chExt cx="3276360" cy="62748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5857920" y="2004480"/>
                    <a:ext cx="3276360" cy="627480"/>
                  </a:xfrm>
                  <a:prstGeom prst="roundRect">
                    <a:avLst>
                      <a:gd name="adj" fmla="val 25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857920" y="2007000"/>
                    <a:ext cx="3276360" cy="62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ff00"/>
                        </a:solidFill>
                        <a:latin typeface="Arial"/>
                      </a:rPr>
                      <a:t>Implementação d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ff00"/>
                        </a:solidFill>
                        <a:latin typeface="Arial"/>
                      </a:rPr>
                      <a:t>Instrumentos de Polític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7812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760" y="2418840"/>
            <a:ext cx="86104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ts val="2812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Lei nº 9.433, de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REGULAMENTAÇÃO E ALTERAÇÃO DA COMPOSIÇÃO: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Decreto nº 4.613, 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5/11/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 Aprovado em 25/6/03 Portaria nº 37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923840"/>
            <a:ext cx="853416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,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40184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4880" y="2342880"/>
            <a:ext cx="7696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ACOMPANHAMENTO E MONIT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45908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Unicode MS"/>
              </a:rPr>
              <a:t>COMPOSIÇÃO (57 membro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PESCADORES E USUÁRIOS DE ÁGUA PARA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PRESTADORAS DE SERVIÇO PÚBLICO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6520" y="2340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ts val="1738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 Unicode MS"/>
              </a:rPr>
              <a:t>PRINCIPAIS RESOLUÇÕES APRO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05 - DIRETRIZES PARA INSTITUIÇÃO DE COMITÊ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12 - ENQUADRAMENTO DE CORPOS DE ÁGU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14 - PROCEDIMENTOS DE INDICAÇÃO DOS REPRESENTANTES DOS CERHs, DOS USUÁRIOS E DAS ORGANIZAÇÕES CIVIS NO CN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15 - GESTÃO DE ÁGUAS SUBTERRÂN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16 - OUTORGA DE DIREITO DE 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17 - PLANOS DE RECURSOS 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19 – APROVA O VALOR DA COBRANÇA NA BACIA DO RIO PARAÍBA DO SU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29 - DIRETRIZES PARA A OUTORGA DE USO DOS RECURSOS HÍDRICOS PARA O APROVEITAMENTO DOS RECURSOS MINER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º 32 - INSTITUI A DIVISÃO HIDROGRÁFICA 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° 38 – DELEGA COMPETÊNCIAS À ENTIDADE DELEGATÁRIA DAS FUNÇÕES DE AGÊNCIA NA BACIA DO PARÁIBA DO S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 Unicode MS"/>
              </a:rPr>
              <a:t>N° 48 – ESTABELECE CRITÉRIOS GERAIS PARA A COBRANÇ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ts val="2563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Arial Unicode MS"/>
              </a:rPr>
              <a:t>CÂMARAS TÉCNI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6200" indent="-2160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 nas deliberaçõ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6200" indent="-2160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DEZ CÂMARAS (composição: mín. 7 e  máx. 17 membr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 Unicode MS"/>
              </a:rPr>
              <a:t>Competê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6200" indent="-2160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6200" indent="-2160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6200" indent="-2160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74780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9800" y="2514240"/>
            <a:ext cx="777240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11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tegração da Gestão das Bacias Hidrográficas e dos Sistemas Estuarinos e Zonas Coste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ente</cp:lastModifiedBy>
  <dcterms:modified xsi:type="dcterms:W3CDTF">2005-11-21T23:04:54Z</dcterms:modified>
  <cp:revision>45</cp:revision>
  <dc:subject/>
  <dc:title>Apresentação do PowerPoint</dc:title>
</cp:coreProperties>
</file>